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E222-CEB5-47A1-A7AB-90C87E22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693E-9689-4681-895E-F9307AF2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28FB-C3B0-47D2-9049-7E263316A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3776-413F-4B00-82EF-B4D94E590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B006-54C1-4646-B413-05BA0999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BB94-309D-4EC8-A1D8-170F3B70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41B5-8EDA-4BDD-9162-903E7B5A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F6A4-0ABE-4FEA-9A75-5E52E2DC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B740-6CA3-4654-AAD3-B0E48810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871B-7F5D-4F64-9F9C-9E85B549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1CFE-FC97-47C4-B8C8-2A145DB3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2DD2-A1C4-4F10-9ADE-2E333ACD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B5E9127-A7C4-43FA-9BEC-02C23D8B59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719520"/>
            <a:ext cx="74167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2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учение грамоте – 1 класс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Мадыхат Турежанов «По заслуга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310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31640" y="5366880"/>
            <a:ext cx="75150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дготовила учитель начальных классов КГУ « Качарская ОШ №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унагатуллина Л. 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pristor.ru/wp-content/uploads/2017/10/%D0%A8%D0%BA%D0%BE%D0%BB%D0%B0-%D0%BA%D0%B0%D1%80%D1%82%D0%B8%D0%BD%D0%BA%D0%B8-%D0%B4%D0%BB%D1%8F-%D0%B4%D0%B5%D1%82%D0%B5%D0%B9-%D0%B8-%D0%BC%D0%B0%D0%BB%D1%8B%D1%88%D0%B5%D0%B9-%D1%81%D0%BA%D0%B0%D1%87%D0%B0%D1%82%D1%8C-%D0%BF%D1%80%D0%B8%D0%BA%D0%BE%D0%BB%D1%8C%D0%BD%D1%8B%D0%B5-%D0%B8-%D0%BA%D1%80%D0%B0%D1%81%D0%B8%D0%B2%D1%8B%D0%B5-4.jpg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3314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9816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8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ель! Апрель!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воре звенит капель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лям бегут ручьи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гах лужи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 выйдут муравьи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зимней стуж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1"/>
          <a:srcRect l="40167" t="38889" r="34146" b="47556"/>
          <a:stretch/>
        </p:blipFill>
        <p:spPr>
          <a:xfrm>
            <a:off x="6943680" y="5560920"/>
            <a:ext cx="1509840" cy="963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2"/>
          <a:srcRect l="40167" t="23557" r="34146" b="62000"/>
          <a:stretch/>
        </p:blipFill>
        <p:spPr>
          <a:xfrm>
            <a:off x="885960" y="5732640"/>
            <a:ext cx="2160360" cy="792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370440" y="60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0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черкни слова – действия двумя линиями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755640" y="162864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на уроке отвечает , пишет и читает.</a:t>
            </a:r>
            <a:endParaRPr b="0" lang="en-US" sz="7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6" name="Прямая соединительная линия 4"/>
          <p:cNvSpPr/>
          <p:nvPr/>
        </p:nvSpPr>
        <p:spPr>
          <a:xfrm>
            <a:off x="826920" y="378936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7" name="Прямая соединительная линия 5"/>
          <p:cNvSpPr/>
          <p:nvPr/>
        </p:nvSpPr>
        <p:spPr>
          <a:xfrm>
            <a:off x="826920" y="393372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8" name="Прямая соединительная линия 6"/>
          <p:cNvSpPr/>
          <p:nvPr/>
        </p:nvSpPr>
        <p:spPr>
          <a:xfrm>
            <a:off x="755640" y="508464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9" name="Прямая соединительная линия 7"/>
          <p:cNvSpPr/>
          <p:nvPr/>
        </p:nvSpPr>
        <p:spPr>
          <a:xfrm>
            <a:off x="755640" y="522936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0" name="Прямая соединительная линия 8"/>
          <p:cNvSpPr/>
          <p:nvPr/>
        </p:nvSpPr>
        <p:spPr>
          <a:xfrm>
            <a:off x="4788000" y="508464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1" name="Прямая соединительная линия 9"/>
          <p:cNvSpPr/>
          <p:nvPr/>
        </p:nvSpPr>
        <p:spPr>
          <a:xfrm>
            <a:off x="4788000" y="522936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2" name="Прямая соединительная линия 10"/>
          <p:cNvSpPr/>
          <p:nvPr/>
        </p:nvSpPr>
        <p:spPr>
          <a:xfrm>
            <a:off x="826920" y="270828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2340000" y="1413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2556000" y="263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241128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622764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398160" y="609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работы в группе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ботаем дружно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2.Уважаем мнение     товарищей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ыбираем           выступающег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C:\Users\Лариса Николаевна\AppData\Local\Microsoft\Windows\INetCache\Content.MSO\3689B3F6.tmp"/>
          <p:cNvPicPr/>
          <p:nvPr/>
        </p:nvPicPr>
        <p:blipFill>
          <a:blip r:embed="rId1"/>
          <a:srcRect l="3137" t="29262" r="64366" b="29047"/>
          <a:stretch/>
        </p:blipFill>
        <p:spPr>
          <a:xfrm>
            <a:off x="395280" y="1628640"/>
            <a:ext cx="1865160" cy="26654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398880" y="614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603720"/>
            <a:ext cx="874872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йдите глаголы.</a:t>
            </a:r>
            <a:br>
              <a:rPr sz="54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но(1) бегут(2) ручьи(3). Весело(1) чирикают(2) воробьи(3). Грач(1) важно(2) шагает(3) по(4) дорожке(5). Марат(1) и(2) Арман(3) строят(4) скворечник(5).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394200" y="61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C:\Users\Лариса Николаевна\AppData\Local\Microsoft\Windows\INetCache\Content.MSO\2178CFB4.tmp"/>
          <p:cNvPicPr/>
          <p:nvPr/>
        </p:nvPicPr>
        <p:blipFill>
          <a:blip r:embed="rId1"/>
          <a:stretch/>
        </p:blipFill>
        <p:spPr>
          <a:xfrm>
            <a:off x="457200" y="333360"/>
            <a:ext cx="8228160" cy="6120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"/>
          <p:cNvSpPr/>
          <p:nvPr/>
        </p:nvSpPr>
        <p:spPr>
          <a:xfrm>
            <a:off x="387000" y="6083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1621359462_4-phonoteka_org-p-eksperimenti-dlya-detei-fon-4.jpg"/>
          <p:cNvPicPr/>
          <p:nvPr/>
        </p:nvPicPr>
        <p:blipFill>
          <a:blip r:embed="rId1"/>
          <a:stretch/>
        </p:blipFill>
        <p:spPr>
          <a:xfrm>
            <a:off x="347760" y="404640"/>
            <a:ext cx="8448480" cy="5832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2268360" y="9079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ЛАБОРАТОРИЯ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1908000" y="1484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ВНИМАТЕЛЬ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627280" y="2276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ДРУЖ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627280" y="3068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АКТИВ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237960" y="623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960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делать,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сделать,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мся школ?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и вопросы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ит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br>
              <a:rPr sz="60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334800" y="609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ыхат Туреж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3816360" cy="293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Турежанов, Мадыхат. В родном дворе"/>
          <p:cNvPicPr/>
          <p:nvPr/>
        </p:nvPicPr>
        <p:blipFill>
          <a:blip r:embed="rId2"/>
          <a:stretch/>
        </p:blipFill>
        <p:spPr>
          <a:xfrm>
            <a:off x="4651200" y="1407960"/>
            <a:ext cx="1828800" cy="2505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Как верблюд свою тень потерял] Турежанов, Мадыхат"/>
          <p:cNvPicPr/>
          <p:nvPr/>
        </p:nvPicPr>
        <p:blipFill>
          <a:blip r:embed="rId3"/>
          <a:stretch/>
        </p:blipFill>
        <p:spPr>
          <a:xfrm>
            <a:off x="6647040" y="1778040"/>
            <a:ext cx="188568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4"/>
          <a:stretch/>
        </p:blipFill>
        <p:spPr>
          <a:xfrm>
            <a:off x="611280" y="4413240"/>
            <a:ext cx="2160360" cy="1968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5"/>
          <a:stretch/>
        </p:blipFill>
        <p:spPr>
          <a:xfrm>
            <a:off x="2990880" y="4413240"/>
            <a:ext cx="1905120" cy="1968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6"/>
          <a:stretch/>
        </p:blipFill>
        <p:spPr>
          <a:xfrm>
            <a:off x="5113440" y="4413240"/>
            <a:ext cx="3571920" cy="1913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22824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81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Турежанов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 заслугам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684360" y="2324160"/>
            <a:ext cx="8001000" cy="3995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3733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81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, мамочка …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265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rcRect l="9968" t="40634" r="53689" b="50334"/>
          <a:stretch/>
        </p:blipFill>
        <p:spPr>
          <a:xfrm>
            <a:off x="433440" y="1773360"/>
            <a:ext cx="8313840" cy="20872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436320" y="608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ьмо наклонное, безотрывное, красивое, чёткое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332280" y="602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8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бери схему, раздели на слоги, поставь ударение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2050920" y="2708280"/>
            <a:ext cx="41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да</a:t>
            </a:r>
            <a:endParaRPr b="0" lang="en-US" sz="9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2268360" y="155736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298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3708360" y="155736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442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5148360" y="1557360"/>
            <a:ext cx="7189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2268360" y="537372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9" name="Прямоугольник 10"/>
          <p:cNvSpPr/>
          <p:nvPr/>
        </p:nvSpPr>
        <p:spPr>
          <a:xfrm>
            <a:off x="298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0" name="Прямоугольник 11"/>
          <p:cNvSpPr/>
          <p:nvPr/>
        </p:nvSpPr>
        <p:spPr>
          <a:xfrm>
            <a:off x="3708360" y="537372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1" name="Прямоугольник 12"/>
          <p:cNvSpPr/>
          <p:nvPr/>
        </p:nvSpPr>
        <p:spPr>
          <a:xfrm>
            <a:off x="442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2" name="Прямоугольник 13"/>
          <p:cNvSpPr/>
          <p:nvPr/>
        </p:nvSpPr>
        <p:spPr>
          <a:xfrm>
            <a:off x="5867280" y="5373720"/>
            <a:ext cx="7207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3" name="Прямоугольник 14"/>
          <p:cNvSpPr/>
          <p:nvPr/>
        </p:nvSpPr>
        <p:spPr>
          <a:xfrm>
            <a:off x="5148360" y="5373720"/>
            <a:ext cx="7189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4" name="Прямая соединительная линия 15"/>
          <p:cNvSpPr/>
          <p:nvPr/>
        </p:nvSpPr>
        <p:spPr>
          <a:xfrm>
            <a:off x="4140360" y="2924280"/>
            <a:ext cx="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5" name="Прямая соединительная линия 16"/>
          <p:cNvSpPr/>
          <p:nvPr/>
        </p:nvSpPr>
        <p:spPr>
          <a:xfrm>
            <a:off x="4427640" y="494172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6" name="Прямая соединительная линия 17"/>
          <p:cNvSpPr/>
          <p:nvPr/>
        </p:nvSpPr>
        <p:spPr>
          <a:xfrm flipH="1">
            <a:off x="3924360" y="2924280"/>
            <a:ext cx="7128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7" name="Прямая соединительная линия 18"/>
          <p:cNvSpPr/>
          <p:nvPr/>
        </p:nvSpPr>
        <p:spPr>
          <a:xfrm flipH="1">
            <a:off x="4066920" y="4797360"/>
            <a:ext cx="73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8" name="Выгнутая вправо стрелка 19"/>
          <p:cNvSpPr/>
          <p:nvPr/>
        </p:nvSpPr>
        <p:spPr>
          <a:xfrm>
            <a:off x="7020000" y="3500280"/>
            <a:ext cx="1224000" cy="237672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479160 h 2376720"/>
              <a:gd name="textAreaBottom" fmla="*/ 174456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3442807"/>
                <a:lnTo>
                  <a:pt x="5400" y="21323"/>
                </a:lnTo>
                <a:lnTo>
                  <a:pt x="0" y="18819"/>
                </a:lnTo>
                <a:lnTo>
                  <a:pt x="5400" y="15761"/>
                </a:lnTo>
                <a:lnTo>
                  <a:pt x="5400" y="17151"/>
                </a:lnTo>
                <a:arcTo wR="21600" hR="8714" stAng="3442807" swAng="-3218864"/>
                <a:lnTo>
                  <a:pt x="21323" y="10105"/>
                </a:lnTo>
                <a:arcTo wR="21600" hR="8714" stAng="-223943" swAng="-5176057"/>
                <a:close/>
              </a:path>
              <a:path fill="darkenLess"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-223943"/>
                <a:lnTo>
                  <a:pt x="21323" y="10105"/>
                </a:lnTo>
                <a:arcTo wR="21600" hR="8714" stAng="-223943" swAng="-5176057"/>
                <a:close/>
              </a:path>
            </a:pathLst>
          </a:custGeom>
          <a:solidFill>
            <a:srgbClr val="000000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37332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30:56Z</dcterms:created>
  <dc:creator>Лариса</dc:creator>
  <dc:description/>
  <dc:language>en-US</dc:language>
  <cp:lastModifiedBy>Alex</cp:lastModifiedBy>
  <dcterms:modified xsi:type="dcterms:W3CDTF">2022-04-25T15:15:20Z</dcterms:modified>
  <cp:revision>55</cp:revision>
  <dc:subject/>
  <dc:title>Слайд 1</dc:title>
</cp:coreProperties>
</file>